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jpeg" ContentType="image/jpe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CC30-C730-4E2D-B879-21ADA3B46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D652-8F42-4BD8-B828-D99427A06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32BA-F98D-4B2E-B053-41B3C46E5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56E4-81AE-4D10-BDE0-D79132F6E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A2E1-65EE-449F-A0E6-B2008DA9A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4920" y="321912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1708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1624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2756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0492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1624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2756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045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1708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4920" y="321912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1708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1624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7560" y="99036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492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1624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7560" y="3219120"/>
            <a:ext cx="277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04560" y="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17080" y="321912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990360"/>
            <a:ext cx="42015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219120"/>
            <a:ext cx="8610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142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1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2280" indent="-2142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1284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1284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1284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Line 62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3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64"/>
          <p:cNvSpPr/>
          <p:nvPr/>
        </p:nvSpPr>
        <p:spPr>
          <a:xfrm>
            <a:off x="2400480" y="6286680"/>
            <a:ext cx="539640" cy="539640"/>
          </a:xfrm>
          <a:prstGeom prst="bevel">
            <a:avLst>
              <a:gd name="adj" fmla="val 1250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65"/>
          <p:cNvSpPr/>
          <p:nvPr/>
        </p:nvSpPr>
        <p:spPr>
          <a:xfrm>
            <a:off x="2527200" y="6276960"/>
            <a:ext cx="27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2b2b2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66"/>
          <p:cNvSpPr/>
          <p:nvPr/>
        </p:nvSpPr>
        <p:spPr>
          <a:xfrm>
            <a:off x="2984400" y="6286680"/>
            <a:ext cx="540000" cy="539640"/>
          </a:xfrm>
          <a:prstGeom prst="bevel">
            <a:avLst>
              <a:gd name="adj" fmla="val 1250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67"/>
          <p:cNvSpPr/>
          <p:nvPr/>
        </p:nvSpPr>
        <p:spPr>
          <a:xfrm>
            <a:off x="3111480" y="6276960"/>
            <a:ext cx="27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2b2b2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68"/>
          <p:cNvSpPr/>
          <p:nvPr/>
        </p:nvSpPr>
        <p:spPr>
          <a:xfrm>
            <a:off x="3568680" y="6286680"/>
            <a:ext cx="539640" cy="539640"/>
          </a:xfrm>
          <a:prstGeom prst="bevel">
            <a:avLst>
              <a:gd name="adj" fmla="val 1250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69"/>
          <p:cNvSpPr/>
          <p:nvPr/>
        </p:nvSpPr>
        <p:spPr>
          <a:xfrm>
            <a:off x="3695760" y="6276960"/>
            <a:ext cx="26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2b2b2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Text Box 70"/>
          <p:cNvSpPr/>
          <p:nvPr/>
        </p:nvSpPr>
        <p:spPr>
          <a:xfrm>
            <a:off x="1523880" y="633744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84" descr="C:\WINDOWS\DESKTOP\PHlogoforPresPro.bmp"/>
          <p:cNvPicPr/>
          <p:nvPr/>
        </p:nvPicPr>
        <p:blipFill>
          <a:blip r:embed="rId3"/>
          <a:stretch/>
        </p:blipFill>
        <p:spPr>
          <a:xfrm>
            <a:off x="8210520" y="6259680"/>
            <a:ext cx="933480" cy="60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" name=""/>
          <p:cNvGraphicFramePr/>
          <p:nvPr/>
        </p:nvGraphicFramePr>
        <p:xfrm>
          <a:off x="8217000" y="6265800"/>
          <a:ext cx="91440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17000" y="6265800"/>
                    <a:ext cx="914400" cy="584280"/>
                  </a:xfrm>
                  <a:prstGeom prst="rect">
                    <a:avLst/>
                  </a:prstGeom>
                  <a:ln w="9360">
                    <a:solidFill>
                      <a:srgbClr val="3a066a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" name="Rectangle 86"/>
          <p:cNvSpPr/>
          <p:nvPr/>
        </p:nvSpPr>
        <p:spPr>
          <a:xfrm>
            <a:off x="8215200" y="6267600"/>
            <a:ext cx="898560" cy="569880"/>
          </a:xfrm>
          <a:prstGeom prst="rect">
            <a:avLst/>
          </a:prstGeom>
          <a:noFill/>
          <a:ln w="9360">
            <a:solidFill>
              <a:srgbClr val="3a06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052"/>
          <p:cNvSpPr/>
          <p:nvPr/>
        </p:nvSpPr>
        <p:spPr>
          <a:xfrm>
            <a:off x="3276720" y="0"/>
            <a:ext cx="2552760" cy="90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55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58"/>
          <p:cNvSpPr/>
          <p:nvPr/>
        </p:nvSpPr>
        <p:spPr>
          <a:xfrm>
            <a:off x="3650040" y="517680"/>
            <a:ext cx="18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sentation P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59" descr="C:\WINDOWS\DESKTOP\PHlogoforPresPro.bmp"/>
          <p:cNvPicPr/>
          <p:nvPr/>
        </p:nvPicPr>
        <p:blipFill>
          <a:blip r:embed="rId3"/>
          <a:stretch/>
        </p:blipFill>
        <p:spPr>
          <a:xfrm>
            <a:off x="8210520" y="6259680"/>
            <a:ext cx="933480" cy="60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8217000" y="6265800"/>
          <a:ext cx="91440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17000" y="6265800"/>
                    <a:ext cx="914400" cy="584280"/>
                  </a:xfrm>
                  <a:prstGeom prst="rect">
                    <a:avLst/>
                  </a:prstGeom>
                  <a:ln w="9360">
                    <a:solidFill>
                      <a:srgbClr val="3a066a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7" name="Rectangle 1061"/>
          <p:cNvSpPr/>
          <p:nvPr/>
        </p:nvSpPr>
        <p:spPr>
          <a:xfrm>
            <a:off x="8215200" y="6267600"/>
            <a:ext cx="898560" cy="569880"/>
          </a:xfrm>
          <a:prstGeom prst="rect">
            <a:avLst/>
          </a:prstGeom>
          <a:noFill/>
          <a:ln w="9360">
            <a:solidFill>
              <a:srgbClr val="3a06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142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1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92280" indent="-2142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1284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1284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1284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15.xml"/><Relationship Id="rId5" Type="http://schemas.openxmlformats.org/officeDocument/2006/relationships/image" Target="../media/image1.jpeg"/><Relationship Id="rId6" Type="http://schemas.openxmlformats.org/officeDocument/2006/relationships/slide" Target="slide15.xml"/><Relationship Id="rId7" Type="http://schemas.openxmlformats.org/officeDocument/2006/relationships/slide" Target="slide3.xml"/><Relationship Id="rId8" Type="http://schemas.openxmlformats.org/officeDocument/2006/relationships/image" Target="../media/image1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15.xml"/><Relationship Id="rId5" Type="http://schemas.openxmlformats.org/officeDocument/2006/relationships/image" Target="../media/image1.jpeg"/><Relationship Id="rId6" Type="http://schemas.openxmlformats.org/officeDocument/2006/relationships/slide" Target="slide15.xml"/><Relationship Id="rId7" Type="http://schemas.openxmlformats.org/officeDocument/2006/relationships/slide" Target="slide3.xml"/><Relationship Id="rId8" Type="http://schemas.openxmlformats.org/officeDocument/2006/relationships/image" Target="../media/image1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15.xml"/><Relationship Id="rId5" Type="http://schemas.openxmlformats.org/officeDocument/2006/relationships/image" Target="../media/image1.jpeg"/><Relationship Id="rId6" Type="http://schemas.openxmlformats.org/officeDocument/2006/relationships/slide" Target="slide15.xml"/><Relationship Id="rId7" Type="http://schemas.openxmlformats.org/officeDocument/2006/relationships/slide" Target="slide3.xml"/><Relationship Id="rId8" Type="http://schemas.openxmlformats.org/officeDocument/2006/relationships/image" Target="../media/image1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15.xml"/><Relationship Id="rId5" Type="http://schemas.openxmlformats.org/officeDocument/2006/relationships/image" Target="../media/image1.jpeg"/><Relationship Id="rId6" Type="http://schemas.openxmlformats.org/officeDocument/2006/relationships/slide" Target="slide15.xml"/><Relationship Id="rId7" Type="http://schemas.openxmlformats.org/officeDocument/2006/relationships/slide" Target="slide3.xml"/><Relationship Id="rId8" Type="http://schemas.openxmlformats.org/officeDocument/2006/relationships/image" Target="../media/image1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hschool.com/atschool/Magruders/2001/Student_Area/MAG_SC8_ACT_index.html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" Target="slide15.xml"/><Relationship Id="rId6" Type="http://schemas.openxmlformats.org/officeDocument/2006/relationships/image" Target="../media/image1.jpeg"/><Relationship Id="rId7" Type="http://schemas.openxmlformats.org/officeDocument/2006/relationships/slide" Target="slide15.xml"/><Relationship Id="rId8" Type="http://schemas.openxmlformats.org/officeDocument/2006/relationships/slide" Target="slide3.xml"/><Relationship Id="rId9" Type="http://schemas.openxmlformats.org/officeDocument/2006/relationships/image" Target="../media/image1.jpeg"/><Relationship Id="rId10" Type="http://schemas.openxmlformats.org/officeDocument/2006/relationships/slide" Target="slide3.xml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9.xml"/><Relationship Id="rId5" Type="http://schemas.openxmlformats.org/officeDocument/2006/relationships/image" Target="../media/image1.jpeg"/><Relationship Id="rId6" Type="http://schemas.openxmlformats.org/officeDocument/2006/relationships/slide" Target="slide9.xml"/><Relationship Id="rId7" Type="http://schemas.openxmlformats.org/officeDocument/2006/relationships/slide" Target="slide3.xml"/><Relationship Id="rId8" Type="http://schemas.openxmlformats.org/officeDocument/2006/relationships/image" Target="../media/image1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9.xml"/><Relationship Id="rId5" Type="http://schemas.openxmlformats.org/officeDocument/2006/relationships/image" Target="../media/image1.jpeg"/><Relationship Id="rId6" Type="http://schemas.openxmlformats.org/officeDocument/2006/relationships/slide" Target="slide9.xml"/><Relationship Id="rId7" Type="http://schemas.openxmlformats.org/officeDocument/2006/relationships/slide" Target="slide3.xml"/><Relationship Id="rId8" Type="http://schemas.openxmlformats.org/officeDocument/2006/relationships/image" Target="../media/image1.jpeg"/><Relationship Id="rId9" Type="http://schemas.openxmlformats.org/officeDocument/2006/relationships/slide" Target="slide3.xml"/><Relationship Id="rId10" Type="http://schemas.openxmlformats.org/officeDocument/2006/relationships/package" Target="../embeddings/oleObject1.docx"/><Relationship Id="rId11" Type="http://schemas.openxmlformats.org/officeDocument/2006/relationships/image" Target="../media/image5.wmf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9.xml"/><Relationship Id="rId5" Type="http://schemas.openxmlformats.org/officeDocument/2006/relationships/image" Target="../media/image1.jpeg"/><Relationship Id="rId6" Type="http://schemas.openxmlformats.org/officeDocument/2006/relationships/slide" Target="slide9.xml"/><Relationship Id="rId7" Type="http://schemas.openxmlformats.org/officeDocument/2006/relationships/slide" Target="slide3.xml"/><Relationship Id="rId8" Type="http://schemas.openxmlformats.org/officeDocument/2006/relationships/image" Target="../media/image1.jpeg"/><Relationship Id="rId9" Type="http://schemas.openxmlformats.org/officeDocument/2006/relationships/slide" Target="slide3.xml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9.xml"/><Relationship Id="rId5" Type="http://schemas.openxmlformats.org/officeDocument/2006/relationships/image" Target="../media/image1.jpeg"/><Relationship Id="rId6" Type="http://schemas.openxmlformats.org/officeDocument/2006/relationships/slide" Target="slide9.xml"/><Relationship Id="rId7" Type="http://schemas.openxmlformats.org/officeDocument/2006/relationships/slide" Target="slide3.xml"/><Relationship Id="rId8" Type="http://schemas.openxmlformats.org/officeDocument/2006/relationships/image" Target="../media/image1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" Target="slide15.xml"/><Relationship Id="rId11" Type="http://schemas.openxmlformats.org/officeDocument/2006/relationships/slide" Target="slide9.xml"/><Relationship Id="rId12" Type="http://schemas.openxmlformats.org/officeDocument/2006/relationships/image" Target="../media/image1.jpeg"/><Relationship Id="rId13" Type="http://schemas.openxmlformats.org/officeDocument/2006/relationships/slide" Target="slide9.xml"/><Relationship Id="rId14" Type="http://schemas.openxmlformats.org/officeDocument/2006/relationships/slide" Target="slide15.xml"/><Relationship Id="rId15" Type="http://schemas.openxmlformats.org/officeDocument/2006/relationships/image" Target="../media/image1.jpeg"/><Relationship Id="rId16" Type="http://schemas.openxmlformats.org/officeDocument/2006/relationships/slide" Target="slide15.xml"/><Relationship Id="rId17" Type="http://schemas.openxmlformats.org/officeDocument/2006/relationships/slide" Target="slide3.xml"/><Relationship Id="rId18" Type="http://schemas.openxmlformats.org/officeDocument/2006/relationships/image" Target="../media/image1.jpeg"/><Relationship Id="rId19" Type="http://schemas.openxmlformats.org/officeDocument/2006/relationships/slide" Target="slide3.xml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9.xml"/><Relationship Id="rId5" Type="http://schemas.openxmlformats.org/officeDocument/2006/relationships/image" Target="../media/image1.jpeg"/><Relationship Id="rId6" Type="http://schemas.openxmlformats.org/officeDocument/2006/relationships/slide" Target="slide9.xml"/><Relationship Id="rId7" Type="http://schemas.openxmlformats.org/officeDocument/2006/relationships/slide" Target="slide15.xml"/><Relationship Id="rId8" Type="http://schemas.openxmlformats.org/officeDocument/2006/relationships/image" Target="../media/image1.jpeg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9.xml"/><Relationship Id="rId5" Type="http://schemas.openxmlformats.org/officeDocument/2006/relationships/image" Target="../media/image1.jpeg"/><Relationship Id="rId6" Type="http://schemas.openxmlformats.org/officeDocument/2006/relationships/slide" Target="slide9.xml"/><Relationship Id="rId7" Type="http://schemas.openxmlformats.org/officeDocument/2006/relationships/slide" Target="slide15.xml"/><Relationship Id="rId8" Type="http://schemas.openxmlformats.org/officeDocument/2006/relationships/image" Target="../media/image1.jpeg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image" Target="../media/image1.jpeg"/><Relationship Id="rId4" Type="http://schemas.openxmlformats.org/officeDocument/2006/relationships/slide" Target="slide9.xml"/><Relationship Id="rId5" Type="http://schemas.openxmlformats.org/officeDocument/2006/relationships/slide" Target="slide15.xml"/><Relationship Id="rId6" Type="http://schemas.openxmlformats.org/officeDocument/2006/relationships/image" Target="../media/image1.jpeg"/><Relationship Id="rId7" Type="http://schemas.openxmlformats.org/officeDocument/2006/relationships/slide" Target="slide15.xml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9.xml"/><Relationship Id="rId5" Type="http://schemas.openxmlformats.org/officeDocument/2006/relationships/image" Target="../media/image1.jpeg"/><Relationship Id="rId6" Type="http://schemas.openxmlformats.org/officeDocument/2006/relationships/slide" Target="slide9.xml"/><Relationship Id="rId7" Type="http://schemas.openxmlformats.org/officeDocument/2006/relationships/slide" Target="slide15.xml"/><Relationship Id="rId8" Type="http://schemas.openxmlformats.org/officeDocument/2006/relationships/image" Target="../media/image1.jpeg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9.xml"/><Relationship Id="rId5" Type="http://schemas.openxmlformats.org/officeDocument/2006/relationships/image" Target="../media/image1.jpeg"/><Relationship Id="rId6" Type="http://schemas.openxmlformats.org/officeDocument/2006/relationships/slide" Target="slide9.xml"/><Relationship Id="rId7" Type="http://schemas.openxmlformats.org/officeDocument/2006/relationships/slide" Target="slide15.xml"/><Relationship Id="rId8" Type="http://schemas.openxmlformats.org/officeDocument/2006/relationships/image" Target="../media/image1.jpeg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hschool.com/atschool/Magruders/2001/Student_Area/MAG_SC8_ACT_index.html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" Target="slide9.xml"/><Relationship Id="rId6" Type="http://schemas.openxmlformats.org/officeDocument/2006/relationships/image" Target="../media/image1.jpeg"/><Relationship Id="rId7" Type="http://schemas.openxmlformats.org/officeDocument/2006/relationships/slide" Target="slide9.xml"/><Relationship Id="rId8" Type="http://schemas.openxmlformats.org/officeDocument/2006/relationships/slide" Target="slide15.xml"/><Relationship Id="rId9" Type="http://schemas.openxmlformats.org/officeDocument/2006/relationships/image" Target="../media/image1.jpeg"/><Relationship Id="rId10" Type="http://schemas.openxmlformats.org/officeDocument/2006/relationships/slide" Target="slide15.xml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" Target="slide15.xml"/><Relationship Id="rId5" Type="http://schemas.openxmlformats.org/officeDocument/2006/relationships/image" Target="../media/image1.jpeg"/><Relationship Id="rId6" Type="http://schemas.openxmlformats.org/officeDocument/2006/relationships/slide" Target="slide15.xml"/><Relationship Id="rId7" Type="http://schemas.openxmlformats.org/officeDocument/2006/relationships/slide" Target="slide3.xml"/><Relationship Id="rId8" Type="http://schemas.openxmlformats.org/officeDocument/2006/relationships/image" Target="../media/image1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55680" y="641988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00"/>
                </a:solidFill>
                <a:latin typeface="Arial"/>
              </a:rPr>
              <a:t>© 2001 by Prentice Hall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1219320"/>
            <a:ext cx="7543800" cy="1752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Magruder’s</a:t>
            </a:r>
            <a:br>
              <a:rPr sz="4800"/>
            </a:b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American Government</a:t>
            </a: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37720" y="30481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C H A P T E R  8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ss Media and Public 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3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4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5">
            <a:hlinkClick r:id="rId4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6">
            <a:hlinkClick r:id="rId6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9">
            <a:hlinkClick r:id="rId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0">
            <a:hlinkClick r:id="rId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Measuring Public Opin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66760" y="88884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196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cc"/>
                </a:solidFill>
                <a:latin typeface="Arial"/>
              </a:rPr>
              <a:t>El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3920" indent="-18396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didates who win an election are said to have a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man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a command from the electorate, to carry out campaign promises. In reality, however, election results are seldom an accurate measure of public opin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7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nterest Gro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3920" indent="-18396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Interest grou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private organizations whose members share certain views and work to shape public policy. Interest groups are a chief means by which public opinion is made kn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7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The Me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3920" indent="-18396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dia are frequently described as “mirrors” as well as “molders” of opin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7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</a:rPr>
              <a:t>Personal Conta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3920" indent="-18396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officials rely on frequent and wide-ranging contacts with their constituents, such as reading their mail, answering calls, and meeting people in publ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0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1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2">
            <a:hlinkClick r:id="rId4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3">
            <a:hlinkClick r:id="rId6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66">
            <a:hlinkClick r:id="rId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7">
            <a:hlinkClick r:id="rId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Polls—The Best Measur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6400" y="2347920"/>
            <a:ext cx="43052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raw V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straw vo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a method of polling that seeks to read the public’s mind simply by asking the same question of a large number of peop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traw-vote technique is highly unreliable, howev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8"/>
          <p:cNvSpPr/>
          <p:nvPr/>
        </p:nvSpPr>
        <p:spPr>
          <a:xfrm>
            <a:off x="203040" y="844560"/>
            <a:ext cx="865512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blic opinion is best measured by </a:t>
            </a: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public opinion pol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devices that attempt to collect information by asking people ques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4838760" y="2347920"/>
            <a:ext cx="43052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cientific Po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ious efforts to take the public’s pulse on a scientific basis date from the 1930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now more than 1,000 national and regional polling organizations in this country, with at least 200 of these polling political preferen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1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2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3">
            <a:hlinkClick r:id="rId4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4">
            <a:hlinkClick r:id="rId6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7">
            <a:hlinkClick r:id="rId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8">
            <a:hlinkClick r:id="rId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Polling Proces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6760" y="89676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887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fining the Uni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080" indent="-181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niver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term that means the whole population that the poll aims to measur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7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nstructing a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080" indent="-181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samp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representative slice of the total universe. Most professional pollsters draw a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random samp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lso called a probability sample. A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quota samp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one that is deliberately constructed to reflect several of the major characteristics of a given univer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7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eparing Valid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080" indent="-181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ay in which questions are worded is very important. Wording can affect the reliability of any po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7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vie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080" indent="-181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lsters communicate with the sample respondents using various methods including person-to-person interviews, telephone calls, and mail survey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7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080" indent="-181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lsters use computers to store and manipulate data, which helps them analyze and report the results of the po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Evaluating Polls and Their Limit on Public Opin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4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>
            <a:hlinkClick r:id="rId4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>
            <a:hlinkClick r:id="rId6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0">
            <a:hlinkClick r:id="rId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>
            <a:hlinkClick r:id="rId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228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092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valuating Po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240" indent="-30924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balance, most national and regional polls are fairly reliable. Still, they are far from perf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9240" indent="-30924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problems with polls include their inability to measure the intensity, stability, and relevance of the opinions they re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9240" indent="-30924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potential problem is that polls and pollsters are sometimes said to shape the opinions they are supposed to mea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6120" y="990360"/>
            <a:ext cx="4228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9320" indent="-319320" algn="ctr">
              <a:spcBef>
                <a:spcPts val="1800"/>
              </a:spcBef>
              <a:buClr>
                <a:srgbClr val="000000"/>
              </a:buClr>
              <a:buSzPct val="15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mits on the Impact of Public Opi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320" indent="-31932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opinion is the major, but by no means the only, influence on public policy in this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9320" indent="-31932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of the American political system is designed to protect minority interests against the excesses of majority views and a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9320" indent="-319320">
              <a:spcBef>
                <a:spcPts val="15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ly, polls are not elections, nor are they substitutes for elec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ection 2 Review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A straw 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correctly predicted the outcome of the 1936 ele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is a method of polling that asks a large amount of people the same ques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is a very reliable type of poll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measures the opinion of only the rural commun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To pollsters,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iver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a private organization whose members share certain views and work to shape public poli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all of outer sp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a probability samp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the whole population that a poll aims to meas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228600" y="571500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t to connect to the Magruder’s link for this section? 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Click He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2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3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4">
            <a:hlinkClick r:id="rId5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>
            <a:hlinkClick r:id="rId7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8">
            <a:hlinkClick r:id="rId8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>
            <a:hlinkClick r:id="rId10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9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2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5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1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9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5" dur="500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8" dur="500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1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6600"/>
                </a:solidFill>
                <a:latin typeface="Arial"/>
              </a:rPr>
              <a:t>S E C T I O N  3</a:t>
            </a:r>
            <a:br>
              <a:rPr sz="1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Mass Media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7080" y="1206360"/>
            <a:ext cx="8858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mass media fulfill its role to provide the public with political inform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mass media influence poli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factors that limit the influence of the med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29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30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31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2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37">
            <a:hlinkClick r:id="rId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8">
            <a:hlinkClick r:id="rId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Role of Mass Media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81756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49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means of communication; it transmits some kind of information. Four major mass media are particularly important in American polit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4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5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6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7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20">
            <a:hlinkClick r:id="rId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1">
            <a:hlinkClick r:id="rId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93760" y="2206800"/>
          <a:ext cx="8537400" cy="362088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3760" y="2206800"/>
                    <a:ext cx="8537400" cy="36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Media Statistic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1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2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3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4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7">
            <a:hlinkClick r:id="rId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8">
            <a:hlinkClick r:id="rId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9"/>
          <p:cNvSpPr/>
          <p:nvPr/>
        </p:nvSpPr>
        <p:spPr>
          <a:xfrm>
            <a:off x="314280" y="825480"/>
            <a:ext cx="86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media varies from country to cou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7" descr="_x0014_MAG01se0803a5170.jpg                                           00000179_x000b_PenyackJ HD                    B33A4082:"/>
          <p:cNvPicPr/>
          <p:nvPr/>
        </p:nvPicPr>
        <p:blipFill>
          <a:blip r:embed="rId10"/>
          <a:stretch/>
        </p:blipFill>
        <p:spPr>
          <a:xfrm>
            <a:off x="717480" y="1327320"/>
            <a:ext cx="7685280" cy="4794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Media and Politic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13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4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5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6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9">
            <a:hlinkClick r:id="rId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0">
            <a:hlinkClick r:id="rId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42720" y="817200"/>
            <a:ext cx="4228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he Public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dia play a very large role in shaping the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public agend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ocietal problems that political leaders and citizens agree need government atten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34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not correct that the media tell the peopl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o think; but it is clear that they tell the people what to think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bo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0" y="882360"/>
            <a:ext cx="4229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9880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lectoral Poli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800" indent="-29880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day, television allows candidates to appeal directly to the people, without the help of a party organiz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800" indent="-29880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didates regularly try to use media coverage to their advanta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800" indent="-29880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scasts featuring candidates are usually short, sharply focused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sound bit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—snappy reports that can be aired in 30 to 45 secon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80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3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8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3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8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4">
            <a:hlinkClick r:id="rId2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9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0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Limits on Media Influenc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21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 small part of the public actually takes in and understands much of what the media have to say about public aff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6160" indent="-326160">
              <a:lnSpc>
                <a:spcPct val="110000"/>
              </a:lnSpc>
              <a:spcBef>
                <a:spcPts val="21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media sources mostly skim the news, reporting only what their news editors judge to be the most important and/or most interesting stories of the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6160" indent="-326160">
              <a:lnSpc>
                <a:spcPct val="110000"/>
              </a:lnSpc>
              <a:spcBef>
                <a:spcPts val="21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-depth coverage of public affairs is available to those who want it and will seek it ou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6600"/>
                </a:solidFill>
                <a:latin typeface="Arial"/>
              </a:rPr>
              <a:t>C H A P T E R  8</a:t>
            </a:r>
            <a:br>
              <a:rPr sz="1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Mass Media and Public Opin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3240" y="1371600"/>
            <a:ext cx="79218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2" action="ppaction://hlinksldjump"/>
              </a:rPr>
              <a:t>SECTION 1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3" action="ppaction://hlinksldjump"/>
              </a:rPr>
              <a:t>	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4" action="ppaction://hlinksldjump"/>
              </a:rPr>
              <a:t>The Formation of Public Opi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5" action="ppaction://hlinksldjump"/>
              </a:rPr>
              <a:t>SECTION 2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6" action="ppaction://hlinksldjump"/>
              </a:rPr>
              <a:t>	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7" action="ppaction://hlinksldjump"/>
              </a:rPr>
              <a:t>Measuring Public Opi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8" action="ppaction://hlinksldjump"/>
              </a:rPr>
              <a:t>SECTION 3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9" action="ppaction://hlinksldjump"/>
              </a:rPr>
              <a:t>	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0" action="ppaction://hlinksldjump"/>
              </a:rPr>
              <a:t>The Mass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9">
            <a:hlinkClick r:id="rId11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0">
            <a:hlinkClick r:id="rId13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1">
            <a:hlinkClick r:id="rId14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2">
            <a:hlinkClick r:id="rId16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5">
            <a:hlinkClick r:id="rId1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6">
            <a:hlinkClick r:id="rId1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ection 3 Review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62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Which of the following are major media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tele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newspap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magaz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all of the ab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ccording to the chart on international media usage found earlier in this section, which media source is accessible to the most American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9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newspap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ra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tele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none of the ab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228600" y="571500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t to connect to the Magruder’s link for this section? Click He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2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3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4"/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5"/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8"/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9"/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0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6600"/>
                </a:solidFill>
                <a:latin typeface="Arial"/>
              </a:rPr>
              <a:t>S E C T I O N  1</a:t>
            </a:r>
            <a:br>
              <a:rPr sz="1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Formation of Public Opin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760" y="129528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public opinion and why is it so difficult to def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family and education shape public opin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dditional factors shape public opin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8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9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0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1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2">
            <a:hlinkClick r:id="rId7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3">
            <a:hlinkClick r:id="rId9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6"/>
          <p:cNvSpPr/>
          <p:nvPr/>
        </p:nvSpPr>
        <p:spPr>
          <a:xfrm>
            <a:off x="228600" y="784080"/>
            <a:ext cx="8686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Public opin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be described as those attitudes held by a significant number of people on matters of government and poli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5711040" y="640080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6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7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8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9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0">
            <a:hlinkClick r:id="rId7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>
            <a:hlinkClick r:id="rId9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What is Public Opinion?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3240" y="2543040"/>
            <a:ext cx="861084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793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fferent Publ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14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nited States is made up of many groups, or publics, who share common new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ublic Aff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14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Public affai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those events and issues that concern the public at large.  In its proper sense, public opinion includes only those views that relate to public affai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ublic Opi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14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than one public opinion can exist at the same time, because there are many publics. A view or position must be expressed in the open in order to be a public opin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Political Spectrum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0" y="7970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who have similar opinions on political issues are generally grouped according to whether they are “left,” “right,” or “center” on the political spect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">
            <a:hlinkClick r:id="rId2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>
            <a:hlinkClick r:id="rId4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0">
            <a:hlinkClick r:id="rId5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>
            <a:hlinkClick r:id="rId7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2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3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5711040" y="640080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5" descr="_x0014_MAG01se0801a5164.jpg                                           00000179_x000b_PenyackJ HD                    B33A4082:"/>
          <p:cNvPicPr/>
          <p:nvPr/>
        </p:nvPicPr>
        <p:blipFill>
          <a:blip r:embed="rId10"/>
          <a:stretch/>
        </p:blipFill>
        <p:spPr>
          <a:xfrm>
            <a:off x="112680" y="2449440"/>
            <a:ext cx="8908920" cy="2768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Family and Educat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42720" y="1677600"/>
            <a:ext cx="4228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ren first see the political world from within the family and through the family’s ey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trong influence the family has on the development of political opinions is due to the large amount of time children spend with the fami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5711040" y="640080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0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1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2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3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4">
            <a:hlinkClick r:id="rId7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5">
            <a:hlinkClick r:id="rId9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71800" y="1677600"/>
            <a:ext cx="4228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he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ren acquire political knowledge throughout their time in the classroo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6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s are taught about political systems, patriotism, and great Americans. Some are even required to take a course on government in high schoo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2"/>
          <p:cNvSpPr/>
          <p:nvPr/>
        </p:nvSpPr>
        <p:spPr>
          <a:xfrm>
            <a:off x="127080" y="797040"/>
            <a:ext cx="8810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factors influence our political opinions and political socialization over the course of a life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Other Factors Influencing Public Opin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5711040" y="640080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6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7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8">
            <a:hlinkClick r:id="rId4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">
            <a:hlinkClick r:id="rId6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0">
            <a:hlinkClick r:id="rId7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1">
            <a:hlinkClick r:id="rId9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8474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51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ass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0600" indent="-179640">
              <a:spcBef>
                <a:spcPts val="9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ass med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lude those means of communication that reach large, widely dispersed audiences (masses of people) simultaneously. The mass media has a huge effect on the formation of public opin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1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er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0600" indent="-179640">
              <a:spcBef>
                <a:spcPts val="9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Peer grou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made up of the people with whom one regularly associates, including friends, classmates, neighbors, and co-work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1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inion L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0600" indent="-179640">
              <a:spcBef>
                <a:spcPts val="9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opinion lea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y person who, for any reason, has an unusually strong influence on the views of oth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1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Historic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0600" indent="-179640">
              <a:spcBef>
                <a:spcPts val="9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ic events can have a major impact on public opinion. The Great Depression is one event that shaped the political views and opinions of a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ection 1 Review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Public opinion is difficult to define bec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everyone shares the same view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there are many groups and issues to account f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no one is allowed to have opin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none of the abo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The mass media consist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friends and fami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neighb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newspapers, magazines, television, and the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peer groups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5711040" y="640080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228600" y="571500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t to connect to the Magruder’s link for this section? 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Click He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1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2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3">
            <a:hlinkClick r:id="rId5" action="ppaction://hlinksldjump"/>
          </p:cNvPr>
          <p:cNvSpPr/>
          <p:nvPr/>
        </p:nvSpPr>
        <p:spPr>
          <a:xfrm>
            <a:off x="298440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>
            <a:hlinkClick r:id="rId7" action="ppaction://hlinksldjump"/>
          </p:cNvPr>
          <p:cNvSpPr/>
          <p:nvPr/>
        </p:nvSpPr>
        <p:spPr>
          <a:xfrm>
            <a:off x="309240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5">
            <a:hlinkClick r:id="rId8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>
            <a:hlinkClick r:id="rId10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32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6600"/>
                </a:solidFill>
                <a:latin typeface="Arial"/>
              </a:rPr>
              <a:t>S E C T I O N  2</a:t>
            </a:r>
            <a:br>
              <a:rPr sz="1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Measuring Public Opin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66400" y="914040"/>
            <a:ext cx="8877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5040" indent="-27504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challenges involved in measuring public opin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5040" indent="-27504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opinion polls the best measure of public opin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5040" indent="-27504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five steps in the polling pro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5040" indent="-27504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challenges of evaluating po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5040" indent="-275040">
              <a:spcBef>
                <a:spcPts val="24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limits on the impact of public opinion in a democra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5"/>
          <p:cNvSpPr/>
          <p:nvPr/>
        </p:nvSpPr>
        <p:spPr>
          <a:xfrm>
            <a:off x="57150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hapter 8, Sec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31">
            <a:hlinkClick r:id="" action="ppaction://hlinkshowjump?jump=previousslide"/>
          </p:cNvPr>
          <p:cNvSpPr/>
          <p:nvPr/>
        </p:nvSpPr>
        <p:spPr>
          <a:xfrm>
            <a:off x="38160" y="6299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2">
            <a:hlinkClick r:id="" action="ppaction://hlinkshowjump?jump=nextslide"/>
          </p:cNvPr>
          <p:cNvSpPr/>
          <p:nvPr/>
        </p:nvSpPr>
        <p:spPr>
          <a:xfrm>
            <a:off x="609480" y="6299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1">
            <a:hlinkClick r:id="rId4" action="ppaction://hlinksldjump"/>
          </p:cNvPr>
          <p:cNvSpPr/>
          <p:nvPr/>
        </p:nvSpPr>
        <p:spPr>
          <a:xfrm>
            <a:off x="3568680" y="6292800"/>
            <a:ext cx="533520" cy="5335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2">
            <a:hlinkClick r:id="rId6" action="ppaction://hlinksldjump"/>
          </p:cNvPr>
          <p:cNvSpPr/>
          <p:nvPr/>
        </p:nvSpPr>
        <p:spPr>
          <a:xfrm>
            <a:off x="367668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5">
            <a:hlinkClick r:id="rId7" action="ppaction://hlinksldjump"/>
          </p:cNvPr>
          <p:cNvSpPr/>
          <p:nvPr/>
        </p:nvSpPr>
        <p:spPr>
          <a:xfrm>
            <a:off x="2400480" y="6292800"/>
            <a:ext cx="533160" cy="5335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6">
            <a:hlinkClick r:id="rId9" action="ppaction://hlinksldjump"/>
          </p:cNvPr>
          <p:cNvSpPr/>
          <p:nvPr/>
        </p:nvSpPr>
        <p:spPr>
          <a:xfrm>
            <a:off x="2508120" y="6286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20:30:29Z</dcterms:created>
  <dc:creator>Prentice Hall</dc:creator>
  <dc:description/>
  <dc:language>en-US</dc:language>
  <cp:lastModifiedBy>David Thompson</cp:lastModifiedBy>
  <cp:lastPrinted>2000-02-11T15:28:41Z</cp:lastPrinted>
  <dcterms:modified xsi:type="dcterms:W3CDTF">2013-10-07T09:20:06Z</dcterms:modified>
  <cp:revision>200</cp:revision>
  <dc:subject>World History Lecture Notes</dc:subject>
  <dc:title>Economics: Principles in Action</dc:title>
</cp:coreProperties>
</file>